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C612-88F4-455E-9C2C-538CB96A5C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уй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563-074E-4C8C-A159-C246B548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8BD-3AC1-47A2-87AC-F024A69F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4F6-DC27-4D87-807E-42DE55BA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AFF-44E8-4315-9F6A-9722EE3F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F2E-0EE9-432B-8464-97C3029F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142-4119-42FD-A9BA-F1A978A9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636-F6DB-493D-954D-57875229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6E9-E56A-479F-984D-0E86EF53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84E-31C4-4DC6-A00D-CE8CCA95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347-8EC5-4E66-918D-B9B5B617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820-E388-44F3-8449-353482AD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4E3-1E78-473A-B992-DD263760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AF33-01E6-4351-A5EE-8702A4AC1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бразцы тестов по теме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«Контроль качества в аудит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к сдаче квалификационного экзамена на квалификационный аттестат аудитора, проводимого в упрощенном поряд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Для аудиторской организации наличие и соблюдение правил осуществления внутреннего контроля качества работы, являетс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словием членства в саморегулируемой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) Необходимым условием для вступления в международную сетевую аудиторскую организа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) Условием для получения лицензии на осуществление аудитор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Что лежит в основе составления плана ВККР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Циклически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) Риск-ориентирован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Циклический или риск-ориентированный подх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. В соответствии с ФСАД 4/2010 при риск-ориентированном подходе к составлению плана ВККР аудиторских организаций, индивидуальных аудиторов принимаются во внимание, в час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езультаты предыдущих внешних прове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численность аттестованных аудиторов, работающих в аудиторск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) общее количество выполненных заданий по проведению аудита и оказанию сопутствующих аудиту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. Объектами внешнего контроля качества являютс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Аудиторские организации и ауди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) Аудиторские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удиторские организации, индивидуальные аудиторы, ауди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 Контролеры при проведении ВККР должны получить достаточную уверенность в том, что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) Объект ВККР имеет надлежащую организацию внутреннего контроля качества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Объект ВККР имеет надлежащую организацию внутреннего контроля качества работы и выполняет все требования внутреннего контроля качества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) Объект ВККР соответствует требованиям Закона 307-ФЗ «Об аудиторской деятельн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 Наблюдение за работой контролеров в ходе ВККР осуществляетс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Для достижения цели проверки и обеспечения качества работы контрол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Уполномоченным федеральным органом в целях контроля за деятельностью С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аботниками СРО, ответственными за составление плана проверо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 целях обеспечения своевременного выполнения такого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. Когда составляется рабочая документация по внешней прове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) при подготовке и проведении внешней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при подготовке и проведении внешней проверки, а также при осуществлении наблюдения в ходе этой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ри проведении внешней проверки, а также при осуществлении наблюдения в ходе этой проверки в случае выявления существенных недостатков ее пр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В каком объеме должна составляться рабочая документация в ходе проведения ВККР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) В рабочую документацию должны включаться все рассмотренные в ходе проверки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) Объем рабочей документации должен быть таков, чтобы в случае, если возникнет необходимость передать работу другому контролеру, не имеющему опыта работы по данной внешней проверке, новый контролер смог исключительно на основе полученной рабочей документации понять проделанную работу и обоснованность выводов прежнего контро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) В рабочую документацию должны включаться только те документы, которые подтверждают выявленные нару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В течении какого срока должна храниться рабочая документация по ВК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</a:rPr>
              <a:t>Этот срок должен быть таков, чтобы субъект ВККР и орган, осуществляющий государственный контроль (надзор) за деятельностью саморегулируемых организаций аудиторов могли осуществить контроль за проведением внешних провер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) Этот срок должен быть таков, чтобы уполномоченный федеральный орган по контролю и надзору мог использовать результаты проверок, проведенных силами СРО аудито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) Этот срок устанавливается каждым СРО аудиторов самостоятельно, но не может быть менее 5-ти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915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. Кем устанавливается форма отчета о результатах внешней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) Министерством Финансов Р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В) Советом по аудиторской дея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Субъектами ВКК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Внешний контроль качества деятельности аудиторских организаций, проводящих аудиторские проверки банков и страховых организаций, осуществляетс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только С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) только уполномоченным федеральным органом по надзору и контрол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) всеми перечисленными выше организац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 Должен ли объект ВККР представлять письменный ответ органу, назначившему внешнюю проверку на отчет по результатам  ВККР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а, в том числе сообщить о запланированных действиях в случае выявления нарушений и недостатков и сроках осуществления таки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) Да, в случае, если он не согласен с выводами и результатами,  сформулированными в отче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то осуществляет внешний контроль качества работы аудиторских организаций, индивидуальных аудиторов, кроме ОЗХС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Саморегулируемые организации аудиторов в отношении своих членов, а также уполномоченный федеральный орган по контролю и надз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) Уполномоченный федеральный орган по контролю и надз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аморегулируемые организации аудиторов в отношении своих чл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Обязан ли уполномоченный федеральный орган по контролю и надзору проинформировать саморегулируемую организацию аудиторов, членом которой является проверенная аудиторская организация, о результатах проверки и решении, принятом в отношении указанной аудиторской организаци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Да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)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) Да, но то в случае, если были выявлены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Кто осуществляет внешний контроль качества работы аудиторских организаций, проводящих обязательный аудит организаций, ценные бумаги которых допущены к обращению на торгах фондовых бирж и (или) иных организаторов торговли на рынке ценных бумаг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аморегулируемые организации аудиторов в отношении своих членов, а также уполномоченный федеральный орган по контролю и надз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Саморегулируемые организации аудиторов в отношении своих чле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) Уполномоченный федеральный орган по контролю и надзор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Принципы осуществления внешнего контроля качества работы аудиторских организаций, индивидуальных аудиторов и требования к организации указанного контроля устанавливаютс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Стандартами саморегулируемых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Федеральными стандартами аудиторской деятель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)  Уполномоченным федеральным органом по контролю и надз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Плановая внешняя проверка качества работы аудиторской организации, индивидуального аудитора, за исключением аудиторских организаций, проводящих обязательный аудит бухгалтерской (финансовой) отчетности организаций, указанных в части 3 статьи 5 Федерального закона №307-ФЗ проводится не реж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Одного раза в 7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дного раза в 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) Одного раза в 2 г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Уполномоченный федеральный орган по надзору и контролю в отношении проверок, проводимых индивидуальными аудито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онтроль не осуществля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осуществляет контроль только по произведенным индивидуальным аудитором аудиторским проверкам консолидированной отчет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) осуществляет контроль только по специальному распоряжению уполномоченного федерального органа государственного регул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Что не является обязанностью аудиторской организации, аудитор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Проходить внешний контроль качества работы, в том числе предоставлять всю необходимую для проверки документацию и информ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Участвовать в осуществлении саморегулируемой организацией аудиторов, членами которой они являются, внешнего контроля качества работы других членов эт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нимать участие в разработке правил внешнего контроля качеств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12:19:22Z</dcterms:created>
  <dc:creator>Director</dc:creator>
  <dc:description/>
  <dc:language>en-US</dc:language>
  <cp:lastModifiedBy>Customer</cp:lastModifiedBy>
  <dcterms:modified xsi:type="dcterms:W3CDTF">2012-08-14T08:47:33Z</dcterms:modified>
  <cp:revision>6</cp:revision>
  <dc:subject/>
  <dc:title>Образцы тестов по теме «Контроль качества в аудите»</dc:title>
</cp:coreProperties>
</file>